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711-92C3-4ECE-975C-7445E928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EE5-A18E-450B-BCA6-1B877EB1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93B-C476-4E8B-B769-2D3631D8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5A6-9460-4A24-BBCE-E0C3D280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B33-EF69-42B0-9E54-6F1478C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9D1-3F20-4D62-8660-3F0CF9CD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88B-378B-49B8-98DA-6816F93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47E-9415-45E3-B8B1-5E1ED8F8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632-1F3E-40C0-A386-BECA2F8C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899-0C26-4C4D-A909-468874D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2CD-09CE-4B7F-8A5B-BC0813E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EC7-1B5D-41CB-AA44-946017A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B7E-2074-414F-9C69-AE0CF198DF6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55560" y="4830840"/>
            <a:ext cx="706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path, in this case it will be CMAKE_INSTALL_PREFIX\&lt;di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oks for system direc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:\Program files\&lt;package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usr/&lt;package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usr/local/&lt;package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make_minimum_required(VERSION 2.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roject(myproje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clude_directories(${YARP_INCLUDE_DIRS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dd_executable(hello2 hello.cp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arget_link_libraries(hello2 ${YARP_LIBRARIES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make_minimum_required(VERSION 2.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 c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 "Enable debugging messages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(STATUS "Debugging messages are enabled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3-07-15T21:53:29Z</dcterms:modified>
  <cp:revision>33</cp:revision>
  <dc:subject/>
  <dc:title>CMake</dc:title>
</cp:coreProperties>
</file>